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871F-C3CF-4129-BB5E-C533C3B44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E8B6-D490-42CD-B92D-F1F51C0BC4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0A93-1B8D-484E-A80C-607127C16D6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F0E0-4A1A-4527-B51B-FDD076667C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BECA-8313-48ED-BF4E-AAE5C50448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E4DA-7F92-4086-8904-93EC057E452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DF12-F5E2-465C-9B8E-157BDD3C204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D5FB-0496-4CD5-A7B0-555C6BBB2B5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DD93-D1A3-4026-BFBF-A74BA27CAD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EB92-D835-4EC4-B903-1D01523827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48DE5-FA04-41E2-A9A8-7BF2C7F661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9058-933D-43E3-AC9B-D7D7051F11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0430-A08D-4FF6-98F0-175D436B33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7699-DF8B-40AE-8C12-88F520EEEC3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698F-31CB-4206-AA90-892BE5D28A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ABF9-FF4F-4114-B9E2-75C65C29C84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C533-3EC3-4EBD-8CC9-AF6E1AEC33A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D895-195C-4A49-822E-0CAAF58659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E8BB-9881-4D2F-9338-3CF9C4A2D2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0D51-C2A5-457E-99C3-486021746A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50B3-0263-49DA-9618-4CD934AE6FD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CAAD-45E5-492F-B187-F9A56BD2B9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3240-8AD2-431A-A766-CEAF7ED41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E3B-056F-4491-8FDA-8B457614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E70B-669B-4A87-99F1-2BEF45D2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845E-2AF3-4763-B4AC-E609221A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9453-1544-4C4F-B490-06C59D3D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E504-98C1-45CB-AAB6-835CF48C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5D14-87DA-47DA-92EE-3BD63174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C5693-B4E7-493B-B8FF-2E7EB252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158B-7A2E-4448-ACE4-593EC247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1937-8BDD-47B7-97F5-D8A8F409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B99C-684A-4C73-81D3-116FEB3A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CA5-6EDB-46DC-B1C6-DED537D0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8346-F3D4-4E1A-8646-BE513B90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D2BD-ADF8-419E-837F-B4CFE6B7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11DB-C33E-4ADC-9763-136155A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73074-FA19-4B8A-8B1B-A0E8F848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B9F7-ADB1-468E-9E9F-DA50A876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CBD-BAF2-4276-BA29-4431073D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104-9A4D-4479-BF97-08DC6956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798-FBB2-487B-895C-61834D3F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D70C-F7AC-4029-8AD2-8FCD6459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A9B-DB8D-47BC-A3C2-1ED7304B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7D7-6C2D-4CFE-91CE-142FAFFD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0ED-BFB1-4AF9-8520-F488B614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0343-5AA7-4B13-B645-B91E05CB8E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E799-1B9A-4A8B-B154-ADE622C909D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Picture 4" descr="feedlot_lg"/>
          <p:cNvPicPr/>
          <p:nvPr/>
        </p:nvPicPr>
        <p:blipFill>
          <a:blip r:embed="rId1"/>
          <a:stretch/>
        </p:blipFill>
        <p:spPr>
          <a:xfrm>
            <a:off x="533520" y="327024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embry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a tox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at plans to continue drainage to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image of a normal, upper left, and deformed birds from the kesterson national wildlife refuge in california's central valley"/>
          <p:cNvPicPr/>
          <p:nvPr/>
        </p:nvPicPr>
        <p:blipFill>
          <a:blip r:embed="rId1"/>
          <a:stretch/>
        </p:blipFill>
        <p:spPr>
          <a:xfrm>
            <a:off x="4114800" y="1447920"/>
            <a:ext cx="4019400" cy="5105160"/>
          </a:xfrm>
          <a:prstGeom prst="rect">
            <a:avLst/>
          </a:prstGeom>
          <a:ln w="0">
            <a:noFill/>
          </a:ln>
        </p:spPr>
      </p:pic>
      <p:sp>
        <p:nvSpPr>
          <p:cNvPr id="131" name="Line 6"/>
          <p:cNvSpPr/>
          <p:nvPr/>
        </p:nvSpPr>
        <p:spPr>
          <a:xfrm>
            <a:off x="3429000" y="19810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e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8320" y="6248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7238520" y="5257440"/>
            <a:ext cx="228600" cy="106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5105520" y="53337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Map59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crop rotation, three sisters"/>
          <p:cNvPicPr/>
          <p:nvPr/>
        </p:nvPicPr>
        <p:blipFill>
          <a:blip r:embed="rId1"/>
          <a:stretch/>
        </p:blipFill>
        <p:spPr>
          <a:xfrm>
            <a:off x="685800" y="8380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Teri Osborne</cp:lastModifiedBy>
  <dcterms:modified xsi:type="dcterms:W3CDTF">2011-11-14T02:11:27Z</dcterms:modified>
  <cp:revision>39</cp:revision>
  <dc:subject/>
  <dc:title>Slide 1</dc:title>
</cp:coreProperties>
</file>